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22F6E-A9D6-46C2-9437-D8263C3CF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ABC09-53AB-421B-A03B-E0599F4B3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98BB3-2D67-42BB-891F-DDC302ACE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A61E3-9E90-40B8-87AC-C6D1D9FE3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D132A-9686-411B-A41A-080786F11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E9AB5-B27C-4892-89C0-DAE4DF2EC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01F46-6D3E-4F59-84FA-2A6363CD5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B7639-9D7F-4935-B032-B2421B9C6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DAFD6-59BE-468B-BAD4-F533B962D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EFF5C-DE68-4BA2-BBA7-74D0ADD4E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FCA1C-1F4B-4CB4-978D-721DC100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13F21-E2FA-462A-A046-118E295C3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7653F-9341-4601-AC66-E78A22B9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943D2-619C-4C9B-85E9-00234A15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2ADF5-5F09-48BB-B142-F0D270646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042A9-75E2-49C9-8AF7-0281C456C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1D60A-0B5D-420F-A2AD-39B3E2251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8E599-4C4B-4037-A44D-E7C87B44C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C3816-016B-4EB7-89B2-F35E30371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20BB9-F46E-4A44-BDFE-18BC47F0E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BF5A6-16A1-4C59-802D-9C0703C06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4A532-44EF-49DB-8910-15EF36E7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49F26-CEFC-4C3A-912F-622A4AE8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CB5B9-D876-44BA-8972-9F3AD7E2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7CFBF-AAED-467B-B6AA-757AC23DE3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82330-E888-4FA3-93F7-5453EFB3B9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28440" y="1828800"/>
            <a:ext cx="7162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Petrolul mi</a:t>
            </a:r>
            <a:r>
              <a:rPr b="0" lang="ro-RO" sz="5000" spc="-1" strike="noStrike">
                <a:solidFill>
                  <a:srgbClr val="ffffff"/>
                </a:solidFill>
                <a:latin typeface="Arial"/>
              </a:rPr>
              <a:t>şcă omenirea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400" spc="-1" strike="noStrike">
                <a:solidFill>
                  <a:srgbClr val="000000"/>
                </a:solidFill>
                <a:latin typeface="Arial"/>
              </a:rPr>
              <a:t>-  motoare termi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3049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lasa a X a A s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5334120"/>
            <a:ext cx="8458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* Citiţi întrebările care vor urma, scrieţi răspunsurile voastre în coloanele corespunzătoare ale tabeluluicare urmează iar când terminaţi, faceţi o sinteză a acestora, apoi completaţi tabelul pe calculato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are sunt combustibilii fosil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ntru ce sunt folosiţi combustibili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uteţi da exemple de motoare term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um funcţionează motorul term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De ce depinde funcţionarea unui motor term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âte tipuri de motoare termice exist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are este cel mai mare defect al motoarelor termic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038480" y="457200"/>
            <a:ext cx="1498680" cy="1123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85800" y="457200"/>
            <a:ext cx="2057400" cy="1147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934320" y="380880"/>
            <a:ext cx="14983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Vă rog să desenaţi pe foaie tabelul de mai j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7200" y="1371600"/>
          <a:ext cx="8229600" cy="4114440"/>
        </p:xfrm>
        <a:graphic>
          <a:graphicData uri="http://schemas.openxmlformats.org/drawingml/2006/table">
            <a:tbl>
              <a:tblPr/>
              <a:tblGrid>
                <a:gridCol w="838080"/>
                <a:gridCol w="2514600"/>
                <a:gridCol w="2590920"/>
                <a:gridCol w="2286000"/>
              </a:tblGrid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Şt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au să şt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 învăţ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sunt combustibilii fosi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ce sunt folosi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ţi combustibil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orul de la dac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este şi cum funcţionează motorul term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ce depinde funcţionarea motorulu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âte feluri de motoare exist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defecte au motoare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457200" y="57913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La ultima coloană veţi răspunde la sfârşitul proiectulu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Continu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57200" y="1371600"/>
          <a:ext cx="8229600" cy="4114440"/>
        </p:xfrm>
        <a:graphic>
          <a:graphicData uri="http://schemas.openxmlformats.org/drawingml/2006/table">
            <a:tbl>
              <a:tblPr/>
              <a:tblGrid>
                <a:gridCol w="838080"/>
                <a:gridCol w="2514600"/>
                <a:gridCol w="2590920"/>
                <a:gridCol w="2286000"/>
              </a:tblGrid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Şt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au să şt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 învăţ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457200" y="57913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La ultima coloană veţi răspunde la sfârşitul proiectulu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3T11:36:28Z</dcterms:created>
  <dc:creator>elev</dc:creator>
  <dc:description/>
  <dc:language>en-US</dc:language>
  <cp:lastModifiedBy>user</cp:lastModifiedBy>
  <dcterms:modified xsi:type="dcterms:W3CDTF">2010-06-03T07:55:20Z</dcterms:modified>
  <cp:revision>7</cp:revision>
  <dc:subject/>
  <dc:title>Petrolul mişcă omenirea</dc:title>
</cp:coreProperties>
</file>